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9D9-F6C6-43C5-B0C0-7AB8E086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A0D-8362-472A-AE27-4DA7BE69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680-9FF2-43BD-83DE-96A36CB2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BC3-1A19-47F5-96FF-B6714AA2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615-1E05-4A9F-8BDF-764DF1A6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9761-CCA6-4748-B7D5-3C974DD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A77D-8DDF-4029-9286-F030DCB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A86-9465-4AF3-8829-2CEE940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CC89-CA7B-4C86-AECB-DFA754A2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50E8-46C4-45C0-A6EA-D40E99C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3F00-D6CF-4107-99F2-DC5CD9C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171-D243-4BC1-ADD1-8090207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E493-4F2D-4937-A038-F0418C0C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F23C-A636-4D07-BCC0-6C57B88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E7AD-528C-45B8-85BF-97A2D79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670-DA73-4450-963D-DFB93DFE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B34-E461-446F-B1C9-D2DF608D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E417-0784-49A0-AFA3-30720E79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B0EF-E637-4F23-A18D-B4604BF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B364-F94A-4D12-AEB6-AA868BC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C0AC-B329-4970-93BC-B70C8962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FAAA-3367-471B-8509-05B2ACCF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FD2-5CD8-4C26-96CF-A097A74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5747-9D8C-47D3-866C-422A2AB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2B64-BE4B-4156-87C9-4B6EB1D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0D3A-F3FF-4309-A14F-230E56B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4AFC-816C-4914-8C8D-BBD24A1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8522-BC01-4255-A4D7-FBF543B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1D6E-F2B6-42B2-9F28-A245062A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F25F-73EE-48F0-9B16-01A91382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D0D3-BAAA-4191-A5D4-0A93FFE8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20DF-8F0C-4A33-98D6-F34D01C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E010-C74B-46E3-8E04-E8EBA06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1E0-859D-48E3-9AF6-6121A5E3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F994-8E26-4C8A-85C4-047531FD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0260-B8CD-482C-A0CF-1109382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7E69-7844-4AA2-8509-91145D3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C520-05D9-46C2-B4C4-021A7C0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3D41-2C7B-4D49-A583-5738973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4536-57E6-4696-AC06-CA29E92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C0EC-0764-42FE-A5AA-F0697468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AA7B-3124-4D27-AB3F-54FE8035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295E-4AE1-47F8-892E-57DF9D4E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29F-1146-4CDD-B4D6-EE8810C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608-1D60-450F-A101-54F95AD3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C98-05A2-4F32-BED6-C040A77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CC-8329-4843-AAAA-C23DDEE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788-138B-4714-A772-19D7A59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0943-2F17-4D0B-AB6F-9109B334C95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E17-FA55-4456-BD6D-04418290E2B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234-0F89-4690-9EB6-7042BCF5B81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1D1-3B8C-4CF3-8FCD-BAC96FBC1CC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538px-Hexahedron"/>
          <p:cNvPicPr/>
          <p:nvPr/>
        </p:nvPicPr>
        <p:blipFill>
          <a:blip r:embed="rId1"/>
          <a:stretch/>
        </p:blipFill>
        <p:spPr>
          <a:xfrm>
            <a:off x="2843280" y="2205000"/>
            <a:ext cx="3573360" cy="39783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7"/>
          <p:cNvSpPr txBox="1"/>
          <p:nvPr/>
        </p:nvSpPr>
        <p:spPr>
          <a:xfrm>
            <a:off x="1042920" y="404640"/>
            <a:ext cx="705636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б и его 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7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знакомиться с понятием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узнать, что представляет собой сечение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находить объем куба по форму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- находить площадь поверхност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уба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258920" y="765000"/>
            <a:ext cx="6256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5400000"/>
                </a:gradFill>
                <a:latin typeface="Times New Roman"/>
              </a:rPr>
              <a:t>ЦЕЛИ ПРОЕК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2f5e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971640" y="304920"/>
            <a:ext cx="76388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ль куба в нашей жи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чение ку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азывается куб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ные вопросы учебной 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8"/>
          <p:cNvSpPr txBox="1"/>
          <p:nvPr/>
        </p:nvSpPr>
        <p:spPr>
          <a:xfrm>
            <a:off x="684360" y="189000"/>
            <a:ext cx="781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Ы КУБ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0" name="Picture 9" descr="3057x1500y1500"/>
          <p:cNvPicPr/>
          <p:nvPr/>
        </p:nvPicPr>
        <p:blipFill>
          <a:blip r:embed="rId1"/>
          <a:stretch/>
        </p:blipFill>
        <p:spPr>
          <a:xfrm>
            <a:off x="2124000" y="1989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0_ab6b_c676dc4a_L"/>
          <p:cNvPicPr/>
          <p:nvPr/>
        </p:nvPicPr>
        <p:blipFill>
          <a:blip r:embed="rId2"/>
          <a:stretch/>
        </p:blipFill>
        <p:spPr>
          <a:xfrm>
            <a:off x="1116000" y="2205000"/>
            <a:ext cx="6350040" cy="375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23866--Large"/>
          <p:cNvPicPr/>
          <p:nvPr/>
        </p:nvPicPr>
        <p:blipFill>
          <a:blip r:embed="rId3"/>
          <a:stretch/>
        </p:blipFill>
        <p:spPr>
          <a:xfrm>
            <a:off x="3276720" y="1773360"/>
            <a:ext cx="2496960" cy="397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1210916645_wc_11"/>
          <p:cNvPicPr/>
          <p:nvPr/>
        </p:nvPicPr>
        <p:blipFill>
          <a:blip r:embed="rId4"/>
          <a:stretch/>
        </p:blipFill>
        <p:spPr>
          <a:xfrm>
            <a:off x="1547640" y="2276640"/>
            <a:ext cx="5715000" cy="3190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Schutz_plastik9246"/>
          <p:cNvPicPr/>
          <p:nvPr/>
        </p:nvPicPr>
        <p:blipFill>
          <a:blip r:embed="rId5"/>
          <a:stretch/>
        </p:blipFill>
        <p:spPr>
          <a:xfrm>
            <a:off x="212400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1280" y="191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1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ей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2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называется сечением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87280" y="9079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групп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рыгин И.Ф. , Шевкин А.В. «Математика: задачи на смекал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льман Я.И.   «Занимательная геометр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кин М.И.   «Развивай геометрическую интуицию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рднер М.    «Математические чудеса и тай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1600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6"/>
          <p:cNvSpPr txBox="1"/>
          <p:nvPr/>
        </p:nvSpPr>
        <p:spPr>
          <a:xfrm>
            <a:off x="1332000" y="2060640"/>
            <a:ext cx="701820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ДЁМ ВАС НА НАШ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АХ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26542</cp:lastModifiedBy>
  <dcterms:modified xsi:type="dcterms:W3CDTF">2010-05-28T10:35:43Z</dcterms:modified>
  <cp:revision>35</cp:revision>
  <dc:subject/>
  <dc:title>Тело Вращения - цилиндр</dc:title>
</cp:coreProperties>
</file>